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4E7-9BED-44FE-AB99-91C4CCB0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635-009F-4FC3-B3D0-41E7E34A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2E8-8439-4792-91B1-67D608D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E2B-07E4-4786-898F-6B34225A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BFC-F8A8-4D55-BC10-55C2722A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EEC-7E72-45BD-AB68-C2558FAD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8D4-3CAE-4784-8298-B76298BF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FE1-5F6F-4248-A39F-1530303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42A-19F8-43E5-AFC6-0816D50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EA5-954E-454A-946E-2088EB0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0E4-765D-4564-AA4A-789D88C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230-E95F-4F10-BA24-D0E881D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8600" y="9944280"/>
            <a:ext cx="24177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800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4AB-BEFD-4E49-8CB5-6194A9CEA08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88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3438-AD79-4F7F-AB84-110F702F2F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22-07-01T05:49:53Z</dcterms:modified>
  <cp:revision>1</cp:revision>
  <dc:subject/>
  <dc:title>Presentation PowerPoint</dc:title>
</cp:coreProperties>
</file>