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comments/comment29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مستخدم مقتنع بـ Microsoft Office" initials="ممبMO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<Relationship Id="rId43" Type="http://schemas.openxmlformats.org/officeDocument/2006/relationships/commentAuthors" Target="commentAuthors.xml"/>
</Relationships>
</file>

<file path=ppt/comments/comment29.xml><?xml version="1.0" encoding="utf-8"?>
<p:cmLst xmlns:p="http://schemas.openxmlformats.org/presentationml/2006/main">
  <p:cm authorId="0" dt="2002-09-21T13:39:01.000000000" idx="1">
    <p:pos x="-1583" y="309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144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7"/>
          <p:cNvSpPr/>
          <p:nvPr/>
        </p:nvSpPr>
        <p:spPr>
          <a:xfrm>
            <a:off x="38862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2"/>
          </p:nvPr>
        </p:nvSpPr>
        <p:spPr>
          <a:xfrm>
            <a:off x="1080" y="8685000"/>
            <a:ext cx="296892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22C0B-B772-489C-A9A3-FD6EE7EAD19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AFD15-BC14-46AD-93A9-2BBE5082DB6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E0552E-8D05-4F05-AFEC-D529FD4ACBB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55AB4B-AA3C-4078-A851-814157E9873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3ECDD4-8D15-4B40-B36D-2E42DD2829B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8D62F1-168D-452F-B98E-E296DED44A3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8942E-47CB-4A99-B3C0-9CB92A9E820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B932EC-972A-4E02-909C-581427A347F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DA725-5F9F-4A6D-95F1-F6142CDF184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F7A625-DA24-4105-A1EB-F263C7D55BD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F24421-6E5B-4B9A-8FAC-AEE650FAF21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E472EC-E12B-475A-AD7B-2FA865F269A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01AF2-4128-4864-BB6C-59FF39816E5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31164B-839F-4947-B21C-877A48DFE11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F8F53B-D847-4138-B53A-D2E0A01387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7E500A-904A-414E-9C6F-8927A4AB564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159F5-863D-4218-B4A0-EE7D9CA1ADA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295784-FE1D-4A45-A8BB-BBF71B0FB1F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14A8C-0202-48E2-88A7-E5DD23C51585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E39DA-959C-4641-9E69-0FB6A34BB06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BF6058-5407-43BE-99A6-9A99343548B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4D92E1-AB2B-44D2-857D-725996EA5E57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567D6-B7F4-4196-A240-E20AB09DD9F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1BB8F1-BFF5-4FF6-AD6D-8DF0B80DB02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F167F1-6491-47FB-A9BA-7093E1E2A1A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0F93D-2DEE-462A-ABB4-2EE0B7AA218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C57453-BECD-4C11-A102-53E64CAE310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348D1C-61D0-4368-9DB1-87A4BDBB75F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A5D4B0-661E-42C5-9EA7-2CC3A05B0C4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D346A-788D-4F78-90F7-2CD79992380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6DAD7F-5616-438F-87F2-6F0A5BAFB0FC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29EF6B-B5F2-4BC4-B21E-6D6DEF79FB2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015A05-C254-46B1-AFB2-FE36634CD1D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12AA1-DCDA-4363-B028-28D9991D40B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AC76E-E4C4-4FA8-8CF2-A25543DF3711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1DF80D-5EE6-43F5-8E0A-4545F7E6B02B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9D610-0217-4761-85B8-7CE1BDA32BBD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EE653-9E73-416F-A010-B40F0438AB66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8"/>
          <p:cNvSpPr/>
          <p:nvPr/>
        </p:nvSpPr>
        <p:spPr>
          <a:xfrm>
            <a:off x="1440" y="8685360"/>
            <a:ext cx="2968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66B26C-D5E0-4BDF-8385-D28AB279BCD0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ar-EG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6F665-85D0-4A5A-91E8-FC812322C5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B185F-01AD-4ACE-9185-0798C8DF87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E2BF0-9451-4395-BACF-9919E51AF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98108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4129200"/>
            <a:ext cx="264852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270A1-15CC-49D6-941F-77C8177676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2D560-F8B3-45EB-9917-89AF1835C8C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C8855-C317-4E9D-ABCE-6B946460DC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024FA-E621-4810-BBF6-12651B652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DFF7A-0669-4BF4-91AD-5E2E03FE4C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380880"/>
            <a:ext cx="8226360" cy="634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94A6F-3BA2-40C4-B4CD-9D3E81A1B0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117B2-EA3A-42AD-816B-909CC441BF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412920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BC6A9-49A1-4FAC-B38C-8C1D7BA1B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981080"/>
            <a:ext cx="4014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29200"/>
            <a:ext cx="8226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56D37-6A57-4119-B50D-58144ED219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22636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981080"/>
            <a:ext cx="82263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r" rtl="1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528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38142-9516-49F0-B332-9AFFB008CEA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2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F07745-3AEC-4686-9C01-7234AC964DB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466560" y="398520"/>
            <a:ext cx="7772400" cy="11430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roadway"/>
              </a:rPr>
              <a:t>MARKETING PLA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1763640" y="2133720"/>
            <a:ext cx="5472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000" spc="-1" strike="noStrike">
                <a:solidFill>
                  <a:srgbClr val="00ccff"/>
                </a:solidFill>
                <a:latin typeface="Arabic Typesetting"/>
              </a:rPr>
              <a:t>الخطة التسويقية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3132000" y="5877000"/>
            <a:ext cx="302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C2DCC6-2A6D-4020-A0D1-55EE10A6CCA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539640" y="76500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ليل المشكلات والمعوقات داخل المنشأ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6240" algn="r" rtl="1">
              <a:spcBef>
                <a:spcPts val="1100"/>
              </a:spcBef>
              <a:tabLst>
                <a:tab algn="l" pos="0"/>
                <a:tab algn="l" pos="609480"/>
                <a:tab algn="l" pos="1057320"/>
                <a:tab algn="l" pos="1506600"/>
                <a:tab algn="l" pos="1955880"/>
                <a:tab algn="l" pos="2405160"/>
                <a:tab algn="l" pos="2854440"/>
                <a:tab algn="l" pos="3303720"/>
                <a:tab algn="l" pos="3753000"/>
                <a:tab algn="l" pos="4202280"/>
                <a:tab algn="l" pos="4651200"/>
                <a:tab algn="l" pos="5100480"/>
                <a:tab algn="l" pos="5549760"/>
                <a:tab algn="l" pos="5999040"/>
                <a:tab algn="l" pos="6448320"/>
                <a:tab algn="l" pos="6897600"/>
                <a:tab algn="l" pos="7346880"/>
                <a:tab algn="l" pos="7796160"/>
                <a:tab algn="l" pos="8245440"/>
                <a:tab algn="l" pos="8694720"/>
                <a:tab algn="l" pos="9144000"/>
                <a:tab algn="l" pos="959328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3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 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تحويل المعطيات الخارجية إلى فرص تسويق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DA9C6-FD0F-4B94-99FD-D6368AF254B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152712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تطوير الاستراتيجية الحالي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519120" y="3645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6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عاون متكاملة لإتمام العمل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1692360" y="2421000"/>
            <a:ext cx="648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1598760" y="1841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5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سويق متكاملة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6E768C-BC95-457C-8CB8-43F568066D6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91440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7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وضع خطة تنفيذ لعمليات التسويق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590400" y="3429000"/>
            <a:ext cx="8229600" cy="2016000"/>
          </a:xfrm>
          <a:prstGeom prst="rect">
            <a:avLst/>
          </a:prstGeom>
          <a:noFill/>
          <a:ln w="572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13d955"/>
                </a:solidFill>
                <a:latin typeface="Courier New"/>
                <a:cs typeface="Tahoma"/>
              </a:rPr>
              <a:t>جميع هذه القرارات أو بعضها يعتبر استراتيجياً والبعض الآخر تنظيمياً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95280" y="1628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8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المراقبة المستمرة والتوجيه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86CD64-ADD6-4036-ACBC-CC7B99FA2DD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 Box 2"/>
          <p:cNvSpPr/>
          <p:nvPr/>
        </p:nvSpPr>
        <p:spPr>
          <a:xfrm>
            <a:off x="3419640" y="2739960"/>
            <a:ext cx="2016000" cy="9018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SWOT</a:t>
            </a: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13d955"/>
                </a:solidFill>
                <a:latin typeface="Tahoma"/>
              </a:rPr>
              <a:t>  </a:t>
            </a:r>
            <a:r>
              <a:rPr b="1" lang="ar-SA" sz="2400" spc="-1" strike="noStrike">
                <a:solidFill>
                  <a:srgbClr val="13d955"/>
                </a:solidFill>
                <a:latin typeface="Tahoma"/>
              </a:rPr>
              <a:t>ق ض ف ن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2556000" y="969840"/>
            <a:ext cx="3456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فرص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Opportun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843280" y="5373720"/>
            <a:ext cx="2808360" cy="45972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cc00"/>
                </a:solidFill>
                <a:latin typeface="Tahoma"/>
              </a:rPr>
              <a:t>التحديات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ahoma"/>
              </a:rPr>
              <a:t>Threa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121440" y="3103560"/>
            <a:ext cx="298764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ضعف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Weakness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71280" y="3043080"/>
            <a:ext cx="2340000" cy="82548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قـوة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trength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Line 7"/>
          <p:cNvSpPr/>
          <p:nvPr/>
        </p:nvSpPr>
        <p:spPr>
          <a:xfrm>
            <a:off x="4284720" y="1413000"/>
            <a:ext cx="1440" cy="115236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Line 8"/>
          <p:cNvSpPr/>
          <p:nvPr/>
        </p:nvSpPr>
        <p:spPr>
          <a:xfrm>
            <a:off x="4284720" y="4221000"/>
            <a:ext cx="1440" cy="115272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Line 9"/>
          <p:cNvSpPr/>
          <p:nvPr/>
        </p:nvSpPr>
        <p:spPr>
          <a:xfrm>
            <a:off x="2411280" y="3284640"/>
            <a:ext cx="79236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Line 10"/>
          <p:cNvSpPr/>
          <p:nvPr/>
        </p:nvSpPr>
        <p:spPr>
          <a:xfrm>
            <a:off x="5292720" y="3357720"/>
            <a:ext cx="792000" cy="1440"/>
          </a:xfrm>
          <a:prstGeom prst="line">
            <a:avLst/>
          </a:prstGeom>
          <a:ln w="5724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FEA881-F5D4-4FF5-924F-218AB7D8F2F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457200" y="1197000"/>
            <a:ext cx="83628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ليل نقاط الضعف ونقاط القوة في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شركة والفرص والتحديات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47640" y="2060640"/>
            <a:ext cx="6934320" cy="26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ahoma"/>
                <a:ea typeface="Tahoma"/>
              </a:rPr>
              <a:t> 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2843280" y="465300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AC90A-DD67-4212-ABAF-F6D016E9FB0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250920" y="1125360"/>
            <a:ext cx="8435880" cy="36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Times New Roman"/>
              </a:rPr>
              <a:t>إن بحوث التسويق ضرورية لمعرفة التهديدات والمخاطر في البيئة السوقية المحيطة بالشركة والتي لا يمكن السيطرة عليها وموطن الضعف والقوة التي يمكن السيطرة عليها ، من أجل التخطيط الصحيح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97B58-55C4-4A3F-8F5B-69F63AC3383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457200" y="828720"/>
            <a:ext cx="82296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تعريف بحوث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1116000" y="2552760"/>
            <a:ext cx="7128000" cy="3659760"/>
          </a:xfrm>
          <a:prstGeom prst="rect">
            <a:avLst/>
          </a:prstGeom>
          <a:noFill/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Abadi MT Condensed Light"/>
                <a:cs typeface="Simplified Arabic"/>
              </a:rPr>
              <a:t>هي جمع وتسجيل وتحليل البيانات التسويقية المتعلقة بالمشكلة موضع البحث ودراستها واتخاذ القرار التسويقي المناسب</a:t>
            </a:r>
            <a:r>
              <a:rPr b="1" lang="en-US" sz="3600" spc="-1" strike="noStrike">
                <a:solidFill>
                  <a:srgbClr val="ffcc00"/>
                </a:solidFill>
                <a:latin typeface="Abadi MT Condensed Light"/>
                <a:ea typeface="Simplified Arabic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AE2B5D-2C31-479B-A2BF-1C77EF2034E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24000" y="260280"/>
            <a:ext cx="8619840" cy="83988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زايا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0920" y="1268280"/>
            <a:ext cx="8672400" cy="46818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أولويات  الأنشط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جيدة بمواصفات السلع ومتغيرات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خدام الأسس العلمية في وضع الاستراتيجيات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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كتشاف الفرص التسويقي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328CD-5F16-4674-91DB-3CF3D393A36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34920" y="189000"/>
            <a:ext cx="8964720" cy="866520"/>
          </a:xfrm>
          <a:prstGeom prst="rect">
            <a:avLst/>
          </a:prstGeom>
          <a:gradFill rotWithShape="0">
            <a:gsLst>
              <a:gs pos="0">
                <a:srgbClr val="800080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32098f"/>
                </a:solidFill>
                <a:latin typeface="Tahoma"/>
                <a:cs typeface="Tahoma"/>
              </a:rPr>
              <a:t>تشمل عملية التخطيط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274920" y="1557360"/>
            <a:ext cx="55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بدء ببحوث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71280" y="2565360"/>
            <a:ext cx="87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وقوف على مواضع القوة والضعف 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268360" y="3573360"/>
            <a:ext cx="65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موضع الشركة في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-324000" y="4581360"/>
            <a:ext cx="91440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خطة التسويقية بالتركيز على مواقع القوة</a:t>
            </a: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 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في الشرك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ircl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3A8CB-93E9-4B21-819F-7E49249971E0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106200" y="339840"/>
            <a:ext cx="838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بؤ بحجم المبيعات المتوق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1581120" y="1434960"/>
            <a:ext cx="691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حديد استراتيجيات 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1042920" y="2532240"/>
            <a:ext cx="7451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وضع الموازنة الخاصة با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150920" y="3629160"/>
            <a:ext cx="73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تصميم المنتج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4920" y="47260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تنفي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538200" y="5823000"/>
            <a:ext cx="79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 3" charset="2"/>
              <a:buChar char="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c9ffff"/>
                </a:solidFill>
                <a:latin typeface="Century Gothic"/>
              </a:rPr>
              <a:t> </a:t>
            </a:r>
            <a:r>
              <a:rPr b="1" lang="ar-SA" sz="4000" spc="-1" strike="noStrike">
                <a:solidFill>
                  <a:srgbClr val="c9ffff"/>
                </a:solidFill>
                <a:latin typeface="Century Gothic"/>
              </a:rPr>
              <a:t>الرقابة والمتابعة للخط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802A05-43A0-4F53-A7DE-674ECA5CB51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" name="Group 2"/>
          <p:cNvGrpSpPr/>
          <p:nvPr/>
        </p:nvGrpSpPr>
        <p:grpSpPr>
          <a:xfrm>
            <a:off x="144360" y="144360"/>
            <a:ext cx="8745480" cy="1913040"/>
            <a:chOff x="144360" y="144360"/>
            <a:chExt cx="8745480" cy="1913040"/>
          </a:xfrm>
        </p:grpSpPr>
        <p:sp>
          <p:nvSpPr>
            <p:cNvPr id="56" name="AutoShape 3"/>
            <p:cNvSpPr/>
            <p:nvPr/>
          </p:nvSpPr>
          <p:spPr>
            <a:xfrm>
              <a:off x="144360" y="144360"/>
              <a:ext cx="8745480" cy="1913040"/>
            </a:xfrm>
            <a:prstGeom prst="horizontalScroll">
              <a:avLst>
                <a:gd name="adj" fmla="val 12500"/>
              </a:avLst>
            </a:prstGeom>
            <a:gradFill rotWithShape="0">
              <a:gsLst>
                <a:gs pos="0">
                  <a:srgbClr val="ffcc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" name="Text Box 4"/>
            <p:cNvSpPr/>
            <p:nvPr/>
          </p:nvSpPr>
          <p:spPr>
            <a:xfrm>
              <a:off x="289080" y="662040"/>
              <a:ext cx="8456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 rtl="1"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ar-SA" sz="5400" spc="-1" strike="noStrike">
                  <a:solidFill>
                    <a:srgbClr val="32098f"/>
                  </a:solidFill>
                  <a:latin typeface="Courier New"/>
                  <a:cs typeface="Courier New"/>
                </a:rPr>
                <a:t>الخطة التسويقية</a:t>
              </a:r>
              <a:endParaRPr b="0" lang="en-US" sz="5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539640" y="3284640"/>
            <a:ext cx="8209080" cy="2908440"/>
          </a:xfrm>
          <a:prstGeom prst="rect">
            <a:avLst/>
          </a:prstGeom>
          <a:noFill/>
          <a:ln w="7632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Arial"/>
                <a:cs typeface="Arabic Transparent"/>
              </a:rPr>
              <a:t>هو عبارة عن خطة توضع لبلوغ هدف الشركة التسويق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B0E97-AFA9-4CFB-AA60-32E6755C46A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Text Box 2"/>
          <p:cNvSpPr/>
          <p:nvPr/>
        </p:nvSpPr>
        <p:spPr>
          <a:xfrm>
            <a:off x="250920" y="333360"/>
            <a:ext cx="8569080" cy="792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d4d4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مجالات بحوث التسوي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611280" y="2205000"/>
            <a:ext cx="7772400" cy="4248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حجم وطبيعة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أسواق الرئيس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اتجاهات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ة السوقية ل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30000"/>
              </a:lnSpc>
              <a:spcBef>
                <a:spcPts val="799"/>
              </a:spcBef>
              <a:buClr>
                <a:srgbClr val="ff9933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عدد عملاء الشركة وطبيعت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059280" y="1341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1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و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AAA56-E925-4386-8689-FFEFF43DB8D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Text Box 2"/>
          <p:cNvSpPr/>
          <p:nvPr/>
        </p:nvSpPr>
        <p:spPr>
          <a:xfrm>
            <a:off x="900000" y="620640"/>
            <a:ext cx="779328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2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نافسو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684360" y="1989000"/>
            <a:ext cx="7772400" cy="403236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طبيعة وحجم المنافسين وتوزعه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نقاط الضعف والقو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للمنتجات المنافس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قارنة المنتجات المنافسة والتعرف على المنتجات الجديدة والبديلة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1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7E351-CE67-4977-80F5-651528B4BEF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1179360" y="560520"/>
            <a:ext cx="7050240" cy="8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3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مبيعات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1332000" y="1773360"/>
            <a:ext cx="6902280" cy="443520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ليل المبيعات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لمناطق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فعالية السياسة التسويق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إيجاد البدائل في السو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الحصص البيع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10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F8B71-AAB5-4331-92E5-C68D5B3579D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3689280" y="828720"/>
            <a:ext cx="450216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4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سلع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903240" y="1989000"/>
            <a:ext cx="7772400" cy="375444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سلع المنافس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وصف السلع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لتعرف على متطلبات وحاجات المستهلك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فرص إنتاج سلع جديد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nodeType="clickEffect" fill="hold">
                      <p:stCondLst>
                        <p:cond delay="indefinite"/>
                      </p:stCondLst>
                      <p:childTnLst>
                        <p:par>
                          <p:cTn id="5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0E51B-E663-4641-85D2-3F45B8653B2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1042920" y="765000"/>
            <a:ext cx="7793280" cy="9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5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رويج والإعلان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539640" y="1989000"/>
            <a:ext cx="8271000" cy="43927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نظرة شاملة عن الاستراتيج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معرفة أساليب الترويج المتوفرة في الأسوا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وسائل الإعلان والرسائل الإعلانية المتواجدة في الأسواق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استراتيجية الترويج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1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1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483DA-BF8F-4F90-8DFE-B8FC305CEA2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2549520" y="898560"/>
            <a:ext cx="57564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38080" indent="-834840" algn="r" rtl="1">
              <a:spcBef>
                <a:spcPts val="1001"/>
              </a:spcBef>
              <a:tabLst>
                <a:tab algn="l" pos="0"/>
                <a:tab algn="l" pos="838080"/>
                <a:tab algn="l" pos="1285920"/>
                <a:tab algn="l" pos="1735200"/>
                <a:tab algn="l" pos="2184480"/>
                <a:tab algn="l" pos="2633760"/>
                <a:tab algn="l" pos="3083040"/>
                <a:tab algn="l" pos="3532320"/>
                <a:tab algn="l" pos="3981600"/>
                <a:tab algn="l" pos="4430880"/>
                <a:tab algn="l" pos="4879800"/>
                <a:tab algn="l" pos="5329080"/>
                <a:tab algn="l" pos="5778360"/>
                <a:tab algn="l" pos="6227640"/>
                <a:tab algn="l" pos="6676920"/>
                <a:tab algn="l" pos="7126200"/>
                <a:tab algn="l" pos="7575480"/>
                <a:tab algn="l" pos="8024760"/>
                <a:tab algn="l" pos="8474040"/>
                <a:tab algn="l" pos="8923320"/>
                <a:tab algn="l" pos="9372600"/>
                <a:tab algn="l" pos="982188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6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)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بحوث التوزيع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042920" y="2017800"/>
            <a:ext cx="7416720" cy="4363920"/>
          </a:xfrm>
          <a:prstGeom prst="rect">
            <a:avLst/>
          </a:prstGeom>
          <a:noFill/>
          <a:ln w="76320">
            <a:solidFill>
              <a:srgbClr val="ff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استراتيجية التوزي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حديد منافذ التوزيع</a:t>
            </a:r>
            <a:r>
              <a:rPr b="1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منافذ التوزيع الخاصة بالشرك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فعالية التوزيع الماد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buClr>
                <a:srgbClr val="ff9900"/>
              </a:buClr>
              <a:buFont typeface="Wingdings" charset="2"/>
              <a:buChar char="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ff99"/>
                </a:solidFill>
                <a:latin typeface="Tahoma"/>
                <a:cs typeface="Tahoma"/>
              </a:rPr>
              <a:t>تقييم أسس اختيار الموزعين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7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4" dur="10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5" dur="1000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669BED-247B-4401-85A8-EB27EAB51C4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2"/>
          <p:cNvSpPr/>
          <p:nvPr/>
        </p:nvSpPr>
        <p:spPr>
          <a:xfrm>
            <a:off x="611280" y="476280"/>
            <a:ext cx="8188200" cy="865080"/>
          </a:xfrm>
          <a:prstGeom prst="rect">
            <a:avLst/>
          </a:prstGeom>
          <a:solidFill>
            <a:srgbClr val="2b5481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e5ffff"/>
                </a:solidFill>
                <a:latin typeface="Tahoma"/>
                <a:cs typeface="Tahoma"/>
              </a:rPr>
              <a:t>خطوات البحث التسويقي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755640" y="2205000"/>
            <a:ext cx="7920000" cy="277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 </a:t>
            </a: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تحديد الهدف من البحث وتحديد المشكلة وأسبابها بشكل دقيق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2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A5B799-BD5F-46D0-A44E-66FBBD7DC91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2"/>
          <p:cNvSpPr/>
          <p:nvPr/>
        </p:nvSpPr>
        <p:spPr>
          <a:xfrm>
            <a:off x="2556000" y="260280"/>
            <a:ext cx="448128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e5ffff"/>
                </a:solidFill>
                <a:latin typeface="Tahoma"/>
                <a:cs typeface="Tahoma"/>
              </a:rPr>
              <a:t>تحديد المشكلة</a:t>
            </a:r>
            <a:r>
              <a:rPr b="1" lang="en-US" sz="4400" spc="-1" strike="noStrike">
                <a:solidFill>
                  <a:srgbClr val="e5ffff"/>
                </a:solidFill>
                <a:latin typeface="Tahoma"/>
                <a:ea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1116000" y="2133720"/>
            <a:ext cx="75517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لعوائق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lnSpc>
                <a:spcPct val="140000"/>
              </a:lnSpc>
              <a:spcBef>
                <a:spcPts val="10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ffcc00"/>
                </a:solidFill>
                <a:latin typeface="Tahoma"/>
                <a:cs typeface="Tahoma"/>
              </a:rPr>
              <a:t>استغلال الفرص التسويقية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nodeType="clickEffect" fill="hold">
                      <p:stCondLst>
                        <p:cond delay="indefinite"/>
                      </p:stCondLst>
                      <p:childTnLst>
                        <p:par>
                          <p:cTn id="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C67F59-6020-43E6-B8B8-168DF0EFF7D8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AutoShape 2"/>
          <p:cNvSpPr/>
          <p:nvPr/>
        </p:nvSpPr>
        <p:spPr>
          <a:xfrm>
            <a:off x="826920" y="1628640"/>
            <a:ext cx="7705800" cy="4535640"/>
          </a:xfrm>
          <a:prstGeom prst="foldedCorner">
            <a:avLst>
              <a:gd name="adj" fmla="val 12500"/>
            </a:avLst>
          </a:prstGeom>
          <a:solidFill>
            <a:srgbClr val="ff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0" y="333360"/>
            <a:ext cx="88362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خطوات تعريف المشكلة التسويقية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755640" y="2276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عري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عرف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سبب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تعر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بعم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على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أعراض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شكل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buClr>
                <a:srgbClr val="00ccff"/>
              </a:buClr>
              <a:buFont typeface="Tahoma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تحديد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هدف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من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والخطوات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واجب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إتباعها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لإتمام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درا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r>
              <a:rPr b="1" lang="ar-AE" sz="3200" spc="-1" strike="noStrike">
                <a:solidFill>
                  <a:srgbClr val="00ccff"/>
                </a:solidFill>
                <a:latin typeface="Tahoma"/>
                <a:cs typeface="Tahoma"/>
              </a:rPr>
              <a:t>المطلوب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6600" indent="-606600" algn="r" rtl="1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10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10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4499D1-5D45-4087-8989-2BD8D6639A5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0" y="476280"/>
            <a:ext cx="9144000" cy="1620720"/>
          </a:xfrm>
          <a:prstGeom prst="rect">
            <a:avLst/>
          </a:prstGeom>
          <a:gradFill rotWithShape="0">
            <a:gsLst>
              <a:gs pos="0">
                <a:srgbClr val="d4d4e2"/>
              </a:gs>
              <a:gs pos="100000">
                <a:srgbClr val="ffcc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000" spc="-1" strike="noStrike">
                <a:solidFill>
                  <a:srgbClr val="32098f"/>
                </a:solidFill>
                <a:latin typeface="Tahoma"/>
              </a:rPr>
              <a:t>عوامل أساسية لإتمام بحوث التسويق بنجاح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68360" y="2781360"/>
            <a:ext cx="822960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0066"/>
              </a:buClr>
              <a:buFont typeface="Wingdings" charset="2"/>
              <a:buChar char="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التوقيت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                 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    </a:t>
            </a:r>
            <a:r>
              <a:rPr b="1" lang="en-US" sz="4000" spc="-1" strike="noStrike">
                <a:solidFill>
                  <a:srgbClr val="ffcc00"/>
                </a:solidFill>
                <a:latin typeface="Tahoma"/>
                <a:ea typeface="Tahoma"/>
              </a:rPr>
              <a:t>TIM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ff9900"/>
              </a:buClr>
              <a:buFont typeface="Arabic Transparent"/>
              <a:buChar char="£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ff9900"/>
                </a:solidFill>
                <a:latin typeface="Tahoma"/>
                <a:cs typeface="Tahoma"/>
              </a:rPr>
              <a:t>التمويل</a:t>
            </a:r>
            <a:r>
              <a:rPr b="1" lang="en-US" sz="4400" spc="-1" strike="noStrike">
                <a:solidFill>
                  <a:srgbClr val="ff9900"/>
                </a:solidFill>
                <a:latin typeface="Tahoma"/>
                <a:ea typeface="Tahoma"/>
              </a:rPr>
              <a:t>                  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 </a:t>
            </a:r>
            <a:r>
              <a:rPr b="1" lang="en-US" sz="4000" spc="-1" strike="noStrike">
                <a:solidFill>
                  <a:srgbClr val="ff9900"/>
                </a:solidFill>
                <a:latin typeface="Tahoma"/>
                <a:ea typeface="Tahoma"/>
              </a:rPr>
              <a:t>MONE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10000"/>
              </a:lnSpc>
              <a:spcBef>
                <a:spcPts val="1001"/>
              </a:spcBef>
              <a:buClr>
                <a:srgbClr val="5b3300"/>
              </a:buClr>
              <a:buFont typeface="Wingdings" charset="2"/>
              <a:buChar char="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</a:t>
            </a:r>
            <a:r>
              <a:rPr b="1" lang="ar-SA" sz="4400" spc="-1" strike="noStrike">
                <a:solidFill>
                  <a:srgbClr val="13d955"/>
                </a:solidFill>
                <a:latin typeface="Tahoma"/>
                <a:cs typeface="Tahoma"/>
              </a:rPr>
              <a:t>الدقة</a:t>
            </a:r>
            <a:r>
              <a:rPr b="1" lang="en-US" sz="4400" spc="-1" strike="noStrike">
                <a:solidFill>
                  <a:srgbClr val="13d955"/>
                </a:solidFill>
                <a:latin typeface="Tahoma"/>
                <a:ea typeface="Tahoma"/>
              </a:rPr>
              <a:t>                  </a:t>
            </a:r>
            <a:r>
              <a:rPr b="1" lang="en-US" sz="4000" spc="-1" strike="noStrike">
                <a:solidFill>
                  <a:srgbClr val="13d955"/>
                </a:solidFill>
                <a:latin typeface="Tahoma"/>
                <a:ea typeface="Tahoma"/>
              </a:rPr>
              <a:t>ACCURITY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nodeType="clickEffect" fill="hold">
                      <p:stCondLst>
                        <p:cond delay="indefinite"/>
                      </p:stCondLst>
                      <p:childTnLst>
                        <p:par>
                          <p:cTn id="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1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6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7A857-BB34-42A9-8363-863227B7E1B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Text Box 2"/>
          <p:cNvSpPr/>
          <p:nvPr/>
        </p:nvSpPr>
        <p:spPr>
          <a:xfrm>
            <a:off x="395280" y="189000"/>
            <a:ext cx="82803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Tahoma"/>
                <a:cs typeface="Tahoma"/>
              </a:rPr>
              <a:t>قبل تحديد الهدف لا بد من الإجابة على الأسئلة التالية</a:t>
            </a:r>
            <a:r>
              <a:rPr b="1" lang="en-US" sz="3600" spc="-1" strike="noStrike">
                <a:solidFill>
                  <a:srgbClr val="ffcc00"/>
                </a:solidFill>
                <a:latin typeface="Tahoma"/>
                <a:ea typeface="Tahoma"/>
              </a:rPr>
              <a:t> 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34920" y="1989000"/>
            <a:ext cx="8675640" cy="44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ماهية الصناعة التي تمارسها الشركة</a:t>
            </a:r>
            <a:r>
              <a:rPr b="1" lang="en-US" sz="20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4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2363760" y="2492280"/>
            <a:ext cx="634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نوعية منتجات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480960" y="3500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وضع الشركة في السوق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480960" y="4437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حجم المنافس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480960" y="5300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     .</a:t>
            </a:r>
            <a:r>
              <a:rPr b="1" lang="ar-SA" sz="3200" spc="-1" strike="noStrike">
                <a:solidFill>
                  <a:srgbClr val="00ccff"/>
                </a:solidFill>
                <a:latin typeface="Tahoma"/>
                <a:cs typeface="Tahoma"/>
              </a:rPr>
              <a:t>ـ زبائن الشركة</a:t>
            </a:r>
            <a:r>
              <a:rPr b="1" lang="en-US" sz="3200" spc="-1" strike="noStrike">
                <a:solidFill>
                  <a:srgbClr val="00cc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59C9E0-715C-4CC3-B149-D2D7A13A176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2"/>
          <p:cNvSpPr/>
          <p:nvPr/>
        </p:nvSpPr>
        <p:spPr>
          <a:xfrm>
            <a:off x="468360" y="260280"/>
            <a:ext cx="8229600" cy="65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فرص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أسواق (حجمها ـ تقسيماتها ـ توزيعها …..)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زبائ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حجم الطلب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تنوع المنتجات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تطور التق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اقتصاد الوطني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40000"/>
              </a:lnSpc>
              <a:spcBef>
                <a:spcPts val="700"/>
              </a:spcBef>
              <a:buClr>
                <a:srgbClr val="13d955"/>
              </a:buClr>
              <a:buFont typeface="Tahoma"/>
              <a:buChar char="o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ون</a:t>
            </a:r>
            <a:r>
              <a:rPr b="1" lang="en-US" sz="28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7FD7AC-A5B6-4DCC-B56F-CB699ABA958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2"/>
          <p:cNvSpPr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  </a:t>
            </a:r>
            <a:r>
              <a:rPr b="1" lang="ar-SA" sz="3200" spc="-1" strike="noStrike" u="sng">
                <a:solidFill>
                  <a:srgbClr val="13d955"/>
                </a:solidFill>
                <a:uFillTx/>
                <a:latin typeface="Tahoma"/>
                <a:cs typeface="Tahoma"/>
              </a:rPr>
              <a:t>المعوقات تعني</a:t>
            </a:r>
            <a:r>
              <a:rPr b="1" lang="en-US" sz="3200" spc="-1" strike="noStrike" u="sng">
                <a:solidFill>
                  <a:srgbClr val="13d955"/>
                </a:solidFill>
                <a:uFillTx/>
                <a:latin typeface="Tahoma"/>
                <a:ea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افس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منتجات البديلة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سعار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انهيار الاقتصادي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60000"/>
              </a:lnSpc>
              <a:spcBef>
                <a:spcPts val="799"/>
              </a:spcBef>
              <a:buClr>
                <a:srgbClr val="13d955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أنظمة والقوانين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47409-1354-44B9-8941-04F6C38C09B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2"/>
          <p:cNvSpPr/>
          <p:nvPr/>
        </p:nvSpPr>
        <p:spPr>
          <a:xfrm>
            <a:off x="-433440" y="380880"/>
            <a:ext cx="91090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3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ية الوصول إلى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واستغلالها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-900000" y="1844640"/>
            <a:ext cx="9586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2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التغلب على التحديات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في الأسواق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36360" y="3929040"/>
            <a:ext cx="8639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40000"/>
              </a:lnSpc>
              <a:buClr>
                <a:srgbClr val="660066"/>
              </a:buClr>
              <a:buFont typeface="Wingdings 3" charset="2"/>
              <a:buChar char="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كيف يمكن توظيف الفرص </a:t>
            </a:r>
            <a:br>
              <a:rPr sz="4000"/>
            </a:br>
            <a:r>
              <a:rPr b="1" lang="ar-SA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لاستخدامها كموارد هامة تستفيد</a:t>
            </a:r>
            <a:br>
              <a:rPr sz="4000"/>
            </a:br>
            <a:r>
              <a:rPr b="1" lang="en-US" sz="4000" spc="-1" strike="noStrike">
                <a:solidFill>
                  <a:srgbClr val="ffcc00"/>
                </a:solidFill>
                <a:latin typeface="Times New Roman"/>
                <a:ea typeface="Tahoma"/>
              </a:rPr>
              <a:t>   </a:t>
            </a:r>
            <a:r>
              <a:rPr b="1" lang="ar-SA" sz="4000" spc="-1" strike="noStrike">
                <a:solidFill>
                  <a:srgbClr val="ffcc00"/>
                </a:solidFill>
                <a:latin typeface="Times New Roman"/>
                <a:cs typeface="Tahoma"/>
              </a:rPr>
              <a:t>منها الشركة ؟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nodeType="clickEffect" fill="hold">
                      <p:stCondLst>
                        <p:cond delay="indefinite"/>
                      </p:stCondLst>
                      <p:childTnLst>
                        <p:par>
                          <p:cTn id="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78015D-475A-4EEF-BC4B-3A8C5D3049A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971640" y="765000"/>
          <a:ext cx="7346880" cy="4897440"/>
        </p:xfrm>
        <a:graphic>
          <a:graphicData uri="http://schemas.openxmlformats.org/drawingml/2006/table">
            <a:tbl>
              <a:tblPr/>
              <a:tblGrid>
                <a:gridCol w="1366920"/>
                <a:gridCol w="2738160"/>
                <a:gridCol w="3241800"/>
              </a:tblGrid>
              <a:tr h="151164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W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en-US" sz="5400" spc="-1" strike="noStrike">
                          <a:solidFill>
                            <a:srgbClr val="ffcc00"/>
                          </a:solidFill>
                          <a:latin typeface="Times New Roman"/>
                          <a:ea typeface="Times New Roman"/>
                        </a:rPr>
                        <a:t>T</a:t>
                      </a:r>
                      <a:endParaRPr b="0" lang="en-US" sz="5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20000" rIns="90000" tIns="46800" bIns="46800" anchor="ctr">
                      <a:noAutofit/>
                    </a:bodyPr>
                    <a:p>
                      <a:pPr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4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قوي</a:t>
                      </a:r>
                      <a:endParaRPr b="0" lang="en-US" sz="4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2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774000" rIns="828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فرص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774000" marR="828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  <a:tr h="338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ضعيف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ar-SA" sz="4000" spc="-1" strike="noStrike">
                          <a:solidFill>
                            <a:srgbClr val="ffcc00"/>
                          </a:solidFill>
                          <a:latin typeface="Times New Roman"/>
                        </a:rPr>
                        <a:t>تحديدات</a:t>
                      </a:r>
                      <a:endParaRPr b="0" lang="en-US" sz="4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336699"/>
                        </a:gs>
                        <a:gs pos="50000">
                          <a:srgbClr val="0099cc"/>
                        </a:gs>
                        <a:gs pos="100000">
                          <a:srgbClr val="336699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ransition>
    <p:wheel spokes="2"/>
  </p:transition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3E9D1-29BA-49FC-B225-A5A5DB59A91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949320" y="2075040"/>
            <a:ext cx="8492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4145040" y="2841480"/>
            <a:ext cx="4572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200" spc="-1" strike="noStrike">
                <a:solidFill>
                  <a:srgbClr val="ffffff"/>
                </a:solidFill>
                <a:latin typeface="Courier New"/>
                <a:cs typeface="Courier New"/>
              </a:rPr>
              <a:t>هــــو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39640" y="620640"/>
          <a:ext cx="8059680" cy="5359320"/>
        </p:xfrm>
        <a:graphic>
          <a:graphicData uri="http://schemas.openxmlformats.org/drawingml/2006/table">
            <a:tbl>
              <a:tblPr/>
              <a:tblGrid>
                <a:gridCol w="216000"/>
                <a:gridCol w="593640"/>
                <a:gridCol w="1308240"/>
                <a:gridCol w="2987640"/>
                <a:gridCol w="2954160"/>
              </a:tblGrid>
              <a:tr h="16178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3200" spc="-1" strike="noStrike">
                          <a:solidFill>
                            <a:srgbClr val="3333ff"/>
                          </a:solidFill>
                          <a:latin typeface="Times New Roman"/>
                        </a:rPr>
                        <a:t>                 </a:t>
                      </a:r>
                      <a:r>
                        <a:rPr b="0" lang="ar-SA" sz="3200" spc="-1" strike="noStrike">
                          <a:solidFill>
                            <a:srgbClr val="ff00ff"/>
                          </a:solidFill>
                          <a:latin typeface="Times New Roman"/>
                        </a:rPr>
                        <a:t>أنـــــــــــــــــــــــــــــــــــــــــا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ضعيـف             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lang="ar-SA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قـوي</a:t>
                      </a:r>
                      <a:r>
                        <a:rPr b="1" lang="en-US" sz="3600" spc="-1" strike="noStrike">
                          <a:solidFill>
                            <a:srgbClr val="660066"/>
                          </a:solidFill>
                          <a:latin typeface="Times New Roman"/>
                        </a:rPr>
                        <a:t> 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792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>
                      <a:noFill/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قوي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28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ضعيف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أقوي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40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</a:t>
                      </a: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نا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ق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  <a:tr h="1949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7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7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2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أنا قـوي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2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هو ضعيف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86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ar-SA" sz="3600" spc="-1" strike="noStrike">
                          <a:solidFill>
                            <a:srgbClr val="13d955"/>
                          </a:solidFill>
                          <a:latin typeface="Times New Roman"/>
                        </a:rPr>
                        <a:t>نحن ضعفاء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67676"/>
                        </a:gs>
                        <a:gs pos="50000">
                          <a:srgbClr val="ffffff"/>
                        </a:gs>
                        <a:gs pos="100000">
                          <a:srgbClr val="767676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sp>
        <p:nvSpPr>
          <p:cNvPr id="174" name="Text Box 40"/>
          <p:cNvSpPr/>
          <p:nvPr/>
        </p:nvSpPr>
        <p:spPr>
          <a:xfrm rot="16200000">
            <a:off x="-155160" y="335052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2800" spc="-1" strike="noStrike">
                <a:solidFill>
                  <a:srgbClr val="ff00ff"/>
                </a:solidFill>
                <a:latin typeface="Tahoma"/>
              </a:rPr>
              <a:t>هــــــــــــــــــــو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2" dur="indefinite" restart="never" nodeType="tmRoot">
          <p:childTnLst>
            <p:seq>
              <p:cTn id="753" dur="indefinite" nodeType="mainSeq">
                <p:childTnLst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58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0C823-C3EC-4608-9F07-0AA23E71E01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2"/>
          <p:cNvSpPr/>
          <p:nvPr/>
        </p:nvSpPr>
        <p:spPr>
          <a:xfrm>
            <a:off x="0" y="476280"/>
            <a:ext cx="8686800" cy="56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البيئة الداخلي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spcBef>
                <a:spcPts val="799"/>
              </a:spcBef>
              <a:tabLst>
                <a:tab algn="l" pos="0"/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هيكل الإداري والتنظيمي في الشرك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إنتاج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طاقات البشرية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التمويل المالي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12880" indent="-809640" algn="r" rtl="1">
              <a:lnSpc>
                <a:spcPct val="15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"/>
              <a:tabLst>
                <a:tab algn="l" pos="812880"/>
                <a:tab algn="l" pos="1260360"/>
                <a:tab algn="l" pos="1709640"/>
                <a:tab algn="l" pos="2158920"/>
                <a:tab algn="l" pos="2608200"/>
                <a:tab algn="l" pos="3057480"/>
                <a:tab algn="l" pos="3506760"/>
                <a:tab algn="l" pos="3956040"/>
                <a:tab algn="l" pos="4405320"/>
                <a:tab algn="l" pos="4854600"/>
                <a:tab algn="l" pos="5303880"/>
                <a:tab algn="l" pos="5753160"/>
                <a:tab algn="l" pos="6202440"/>
                <a:tab algn="l" pos="6651720"/>
                <a:tab algn="l" pos="7101000"/>
                <a:tab algn="l" pos="7550280"/>
                <a:tab algn="l" pos="7999560"/>
                <a:tab algn="l" pos="8448840"/>
                <a:tab algn="l" pos="8897760"/>
                <a:tab algn="l" pos="9347040"/>
                <a:tab algn="l" pos="97963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00ff"/>
                </a:solidFill>
                <a:latin typeface="Tahoma"/>
                <a:cs typeface="Tahoma"/>
              </a:rPr>
              <a:t>وضع الشركة في السوق</a:t>
            </a:r>
            <a:r>
              <a:rPr b="1" lang="en-US" sz="3200" spc="-1" strike="noStrike">
                <a:solidFill>
                  <a:srgbClr val="ff00ff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B0826B-3265-4456-ADF8-F19150DC33B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>
                <a:solidFill>
                  <a:srgbClr val="ffcc00"/>
                </a:solidFill>
                <a:latin typeface="Times New Roman"/>
              </a:rPr>
              <a:t>بيئة التسويق والعوامل المؤثرة فيها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Text Box 3"/>
          <p:cNvSpPr/>
          <p:nvPr/>
        </p:nvSpPr>
        <p:spPr>
          <a:xfrm>
            <a:off x="457200" y="1690560"/>
            <a:ext cx="8229600" cy="4114800"/>
          </a:xfrm>
          <a:prstGeom prst="rect">
            <a:avLst/>
          </a:prstGeom>
          <a:noFill/>
          <a:ln w="9360">
            <a:solidFill>
              <a:srgbClr val="13d9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20000"/>
              </a:lnSpc>
              <a:spcBef>
                <a:spcPts val="11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 </a:t>
            </a:r>
            <a:r>
              <a:rPr b="1" lang="ar-SA" sz="4400" spc="-1" strike="noStrike">
                <a:solidFill>
                  <a:srgbClr val="ffff99"/>
                </a:solidFill>
                <a:latin typeface="Tahoma"/>
                <a:cs typeface="Arabic Transparent"/>
              </a:rPr>
              <a:t>تتأثر المشروعات الصناعية بالعديد من العوامل المحيطة بالمشروع وهي مؤثرات خارجية وداخلية، بعض هذه العوامل يمكن السيطرة عليها والبعض لا يمكن السيطرة عليها</a:t>
            </a:r>
            <a:r>
              <a:rPr b="1" lang="en-US" sz="4400" spc="-1" strike="noStrike">
                <a:solidFill>
                  <a:srgbClr val="ffff99"/>
                </a:solidFill>
                <a:latin typeface="Tahoma"/>
                <a:ea typeface="Arabic Transparent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5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C0AF07-87A3-41BB-8A35-56BD4B07E7C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Text Box 2"/>
          <p:cNvSpPr/>
          <p:nvPr/>
        </p:nvSpPr>
        <p:spPr>
          <a:xfrm>
            <a:off x="374760" y="442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6600" spc="-1" strike="noStrike">
                <a:solidFill>
                  <a:srgbClr val="e5ffff"/>
                </a:solidFill>
                <a:latin typeface="Arabic Typesetting"/>
                <a:cs typeface="Arabic Typesetting"/>
              </a:rPr>
              <a:t>وهو مزيج من الأنشطة الأربعة الأساسية</a:t>
            </a:r>
            <a:r>
              <a:rPr b="1" lang="en-US" sz="6600" spc="-1" strike="noStrike">
                <a:solidFill>
                  <a:srgbClr val="e5ffff"/>
                </a:solidFill>
                <a:latin typeface="Arabic Typesetting"/>
                <a:ea typeface="Arabic Typesetting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46836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السلعة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السعر</a:t>
            </a:r>
            <a:r>
              <a:rPr b="1" lang="en-US" sz="3600" spc="-1" strike="noStrike" u="sng">
                <a:solidFill>
                  <a:srgbClr val="ffff99"/>
                </a:solidFill>
                <a:uFillTx/>
                <a:latin typeface="Courier New"/>
              </a:rPr>
              <a:t> </a:t>
            </a:r>
            <a:r>
              <a:rPr b="1" lang="ar-SA" sz="3600" spc="-1" strike="noStrike" u="sng">
                <a:solidFill>
                  <a:srgbClr val="ffff99"/>
                </a:solidFill>
                <a:uFillTx/>
                <a:latin typeface="Courier New"/>
              </a:rPr>
              <a:t>وأسواق التوزيع والترويج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ffcc00"/>
                </a:solidFill>
                <a:latin typeface="Courier New"/>
              </a:rPr>
              <a:t>تعتمد استراتيجية المزيج التسويقي على التناسق والتناغم بين العناصر الأربعة</a:t>
            </a:r>
            <a:r>
              <a:rPr b="1" lang="en-US" sz="3600" spc="-1" strike="noStrike">
                <a:solidFill>
                  <a:srgbClr val="ffcc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just" rtl="1">
              <a:lnSpc>
                <a:spcPct val="130000"/>
              </a:lnSpc>
              <a:spcBef>
                <a:spcPts val="901"/>
              </a:spcBef>
              <a:buClr>
                <a:srgbClr val="13d955"/>
              </a:buClr>
              <a:buFont typeface="Wingdings" charset="2"/>
              <a:buChar char="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600" spc="-1" strike="noStrike">
                <a:solidFill>
                  <a:srgbClr val="13d955"/>
                </a:solidFill>
                <a:latin typeface="Courier New"/>
              </a:rPr>
              <a:t>التوازن بين ما تنتجه الشركة والأساليب المستخدمة للوصول إلى الأسواق لتحقيق الربح المطلوب وإشباع الحاجات تحقيق الرغبات</a:t>
            </a:r>
            <a:r>
              <a:rPr b="1" lang="en-US" sz="3600" spc="-1" strike="noStrike">
                <a:solidFill>
                  <a:srgbClr val="13d955"/>
                </a:solidFill>
                <a:latin typeface="Tahoma"/>
                <a:ea typeface="Tahoma"/>
              </a:rPr>
              <a:t> 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5" dur="10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6057A-495C-4CB1-BA67-624CC8D94B41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تحليل</a:t>
            </a:r>
            <a:r>
              <a:rPr b="0" lang="ar-SA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ar-SA" sz="4400" spc="-1" strike="noStrike">
                <a:solidFill>
                  <a:srgbClr val="00ccff"/>
                </a:solidFill>
                <a:latin typeface="Times New Roman"/>
              </a:rPr>
              <a:t>المنافسين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ccff"/>
                </a:solidFill>
                <a:latin typeface="Times New Roman"/>
              </a:rPr>
              <a:t>(</a:t>
            </a:r>
            <a:r>
              <a:rPr b="0" lang="en-US" sz="4400" spc="-1" strike="noStrike">
                <a:solidFill>
                  <a:srgbClr val="e5ffff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-3276720" y="4730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ar-SA" sz="3600" spc="-1" strike="noStrike">
                <a:solidFill>
                  <a:srgbClr val="00ccff"/>
                </a:solidFill>
                <a:latin typeface="Times New Roman"/>
              </a:rPr>
              <a:t>المنافسة الافتراضية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)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cc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457200" y="1700280"/>
            <a:ext cx="82296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</a:rPr>
              <a:t>ـ المنافسة المباشر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1100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57200" y="227664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افسة المتوقعة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57200" y="34830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المنتجات البديلة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663480" y="428940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تعزيز التواصل مع الممولي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Rectangle 8"/>
          <p:cNvSpPr/>
          <p:nvPr/>
        </p:nvSpPr>
        <p:spPr>
          <a:xfrm>
            <a:off x="446040" y="515772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imes New Roman"/>
              </a:rPr>
              <a:t>ـ زوال التواصل مع الزبائن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en-US" sz="4400" spc="-1" strike="noStrike">
                <a:solidFill>
                  <a:srgbClr val="ffcc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4" dur="1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1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CFF08F-6C70-456F-8914-7F35ACDC0E8D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457200" y="380880"/>
            <a:ext cx="822960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800" spc="-1" strike="noStrike">
                <a:solidFill>
                  <a:srgbClr val="13d955"/>
                </a:solidFill>
                <a:latin typeface="Tahoma"/>
                <a:cs typeface="Tahoma"/>
              </a:rPr>
              <a:t>لجعل الهدف أكثر فاعلية نتعرف إلى ماهية القرارات المتعلقة باستراتيجيات التسويق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092063-C215-485D-B106-903E03ABE433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Text Box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gradFill rotWithShape="0">
            <a:gsLst>
              <a:gs pos="0">
                <a:srgbClr val="14273c"/>
              </a:gs>
              <a:gs pos="50000">
                <a:srgbClr val="2b5481"/>
              </a:gs>
              <a:gs pos="100000">
                <a:srgbClr val="14273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000" spc="-1" strike="noStrike">
                <a:solidFill>
                  <a:srgbClr val="e5ffff"/>
                </a:solidFill>
                <a:latin typeface="Tahoma"/>
                <a:cs typeface="Tahoma"/>
              </a:rPr>
              <a:t>مفهوم الخطة الاستراتيجية للتسوي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13d955"/>
                </a:solidFill>
                <a:latin typeface="Tahoma"/>
                <a:cs typeface="Tahoma"/>
              </a:rPr>
              <a:t>ما المقصود بالإستراتيجية؟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3200" spc="-1" strike="noStrike">
                <a:solidFill>
                  <a:srgbClr val="ffcc00"/>
                </a:solidFill>
                <a:latin typeface="Tahoma"/>
                <a:cs typeface="Tahoma"/>
              </a:rPr>
              <a:t>هي مجموعة من الخطط توضع لتنفيذ هدف أو أهداف الشركة للوصول إلى تنفيذ رسالة  (أو غاية ) الشركة التي وضع الهدف من أجلها</a:t>
            </a:r>
            <a:r>
              <a:rPr b="1" lang="en-US" sz="3200" spc="-1" strike="noStrike">
                <a:solidFill>
                  <a:srgbClr val="ffcc00"/>
                </a:solidFill>
                <a:latin typeface="Tahoma"/>
                <a:ea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39840" algn="r" rtl="1">
              <a:spcBef>
                <a:spcPts val="799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CAAD87-3D67-4097-ADF7-04DF5F60387A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Freeform 2"/>
          <p:cNvSpPr/>
          <p:nvPr/>
        </p:nvSpPr>
        <p:spPr>
          <a:xfrm>
            <a:off x="395280" y="907920"/>
            <a:ext cx="8424720" cy="4465800"/>
          </a:xfrm>
          <a:custGeom>
            <a:avLst/>
            <a:gdLst>
              <a:gd name="textAreaLeft" fmla="*/ 1307520 w 8424720"/>
              <a:gd name="textAreaRight" fmla="*/ 7117200 w 8424720"/>
              <a:gd name="textAreaTop" fmla="*/ 693000 h 4465800"/>
              <a:gd name="textAreaBottom" fmla="*/ 3772800 h 446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105" y="21600"/>
                </a:lnTo>
                <a:lnTo>
                  <a:pt x="1849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666699"/>
              </a:gs>
              <a:gs pos="100000">
                <a:srgbClr val="66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692280"/>
            <a:ext cx="822960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5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ahoma"/>
                <a:cs typeface="Tahoma"/>
              </a:rPr>
              <a:t>لابد من تحديد استراتيجية التسويق باعتبار أن التسويق هو الهدف الأساسي لأي منشأ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9FE51-A8AF-4905-B274-7FB6AA7A4B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Text Box 2"/>
          <p:cNvSpPr/>
          <p:nvPr/>
        </p:nvSpPr>
        <p:spPr>
          <a:xfrm>
            <a:off x="468360" y="620640"/>
            <a:ext cx="8229600" cy="54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شرك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ي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مكن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ذه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هداف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بمعايي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كم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نو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و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وضع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حال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buSzPct val="102812"/>
              <a:buBlip>
                <a:blip r:embed="rId5"/>
              </a:buBlip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هل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أهدافن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تسويق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قعي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ما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يخ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فرص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والمخاطر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موجودة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في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</a:t>
            </a:r>
            <a:r>
              <a:rPr b="1" lang="ar-AE" sz="3600" spc="-1" strike="noStrike">
                <a:solidFill>
                  <a:srgbClr val="ffffff"/>
                </a:solidFill>
                <a:latin typeface="Tahoma"/>
                <a:cs typeface="Tahoma"/>
              </a:rPr>
              <a:t>الأسواق</a:t>
            </a:r>
            <a:r>
              <a:rPr b="1" lang="en-US" sz="36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 algn="r" rtl="1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7AD31D-ACCE-459C-B6D2-A7764AF7FE0F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Text Box 2"/>
          <p:cNvSpPr/>
          <p:nvPr/>
        </p:nvSpPr>
        <p:spPr>
          <a:xfrm>
            <a:off x="3564000" y="380880"/>
            <a:ext cx="5122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ar-SA" sz="4400" spc="-1" strike="noStrike" u="sng">
                <a:solidFill>
                  <a:srgbClr val="ffff99"/>
                </a:solidFill>
                <a:uFillTx/>
                <a:latin typeface="Courier New"/>
              </a:rPr>
              <a:t>الواقع التحليلي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457200" y="155736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ctr" rtl="1">
              <a:lnSpc>
                <a:spcPct val="150000"/>
              </a:lnSpc>
              <a:spcBef>
                <a:spcPts val="1100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ar-SA" sz="4400" spc="-1" strike="noStrike">
                <a:solidFill>
                  <a:srgbClr val="ffcc00"/>
                </a:solidFill>
                <a:latin typeface="Tahoma"/>
                <a:cs typeface="Tahoma"/>
              </a:rPr>
              <a:t>أن خطة التسويق الاستراتيجية يجب أن توضع من خلال التحليل التسويقي باستخدام الأدوات التالية</a:t>
            </a:r>
            <a:r>
              <a:rPr b="1" lang="en-US" sz="4400" spc="-1" strike="noStrike">
                <a:solidFill>
                  <a:srgbClr val="ffcc00"/>
                </a:solidFill>
                <a:latin typeface="Tahoma"/>
                <a:ea typeface="Tahoma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7A48ED-0659-4528-B29B-9D2E41989EF9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Text Box 2"/>
          <p:cNvSpPr/>
          <p:nvPr/>
        </p:nvSpPr>
        <p:spPr>
          <a:xfrm>
            <a:off x="324000" y="1052640"/>
            <a:ext cx="822960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 rtl="1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1</a:t>
            </a:r>
            <a:r>
              <a:rPr b="0" lang="ar-SA" sz="4400" spc="-1" strike="noStrike">
                <a:solidFill>
                  <a:srgbClr val="ffcc00"/>
                </a:solidFill>
                <a:latin typeface="Tahoma"/>
              </a:rPr>
              <a:t>ـ خارج المنشأة لابد من إجراء مسح شامل لبيئة السوق، وتحليل لواقع المنافسة، وللمستهلك والوضع الاقتصادي، والحكومي، والتكنولوجي…الخ</a:t>
            </a: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2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59:46Z</dcterms:created>
  <dc:creator>pc</dc:creator>
  <dc:description/>
  <dc:language>en-US</dc:language>
  <cp:lastModifiedBy>M.A.S tech</cp:lastModifiedBy>
  <dcterms:modified xsi:type="dcterms:W3CDTF">2022-02-26T14:01:36Z</dcterms:modified>
  <cp:revision>105</cp:revision>
  <dc:subject/>
  <dc:title>تحديد نقاط الضعف والقوة والفرص والتحديات</dc:title>
</cp:coreProperties>
</file>